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ED1-37E6-4DCE-9CBD-B7F53AEA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B21-F9B5-46AE-ACD7-48799FB9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564-A173-4DAC-93E8-44DEBAE6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035-F09A-4A8A-BAAB-4148398D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8D26-6455-49AD-820E-46FA0571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39C8-B766-4CC2-976E-883C78E7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AC1-7643-4D63-8149-0F76FE8D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5391-6D9F-42DB-9C3B-FE518168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A3F4-5840-4E72-916B-7389117E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D060-542F-4F6F-B7F6-C3C23BA6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52E5-2E6E-45DD-8366-F1AD7F0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4B5-07FB-4ED2-8B3C-DBB3E28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46CA-2A26-4993-A118-05B223C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6247-349B-44D2-9427-47F7B633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26DD-010F-4260-A698-3175206F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EE60-1A64-45D5-9AA8-F4E3427C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5CF3-C99F-429D-A786-C651E266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E94-F66B-4723-BE9A-6E5BC225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506-91FC-4042-9296-C6A9B44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452-CE44-4018-8175-1BFCC83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22E-031F-4EB3-A21C-E61841D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23A-02A8-4DAF-B2E3-B84156E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AE7-BC9C-4172-8FA1-21ECABF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AF2-5C41-4447-9E2C-1BA48DB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BA4C-BC9F-458D-A1E2-2402A244A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55BD-B0CE-447E-B303-BF77F40E6F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Markov Models for fMRI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becca Hutch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/30/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can’t model real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fficient training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r estimates of initial distributio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 HMM approach with supervised lear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 the training algorithm where the state transitions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y the Naïve Bayes Classifiers we usually use to represent the emission probabilities of th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different HMM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 better way to constrain model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biner, Lawrence R.  “A Tutorial on Hidden Markov Models and Selected Applications in Speech Recognition.”  Proceedings of the IEEE, Vol. 77, No. 2, February 198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ov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dden Markov Mode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 of th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us and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states (e.g. N=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state distribution (e.g. P = [0.7 0.3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ion probability matrix between st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 A = [0.5 0.5; 0.0 1.0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ov Assumption: current state depends only on state at previou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45720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5720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5" idx="0"/>
            <a:endCxn id="105" idx="7"/>
          </p:cNvCxnSpPr>
          <p:nvPr/>
        </p:nvCxnSpPr>
        <p:spPr>
          <a:xfrm flipH="1" rot="16200000">
            <a:off x="2535120" y="4435920"/>
            <a:ext cx="189720" cy="459360"/>
          </a:xfrm>
          <a:prstGeom prst="curvedConnector5">
            <a:avLst>
              <a:gd name="adj1" fmla="val -120912"/>
              <a:gd name="adj2" fmla="val 49960"/>
              <a:gd name="adj3" fmla="val -120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6" idx="0"/>
            <a:endCxn id="106" idx="7"/>
          </p:cNvCxnSpPr>
          <p:nvPr/>
        </p:nvCxnSpPr>
        <p:spPr>
          <a:xfrm flipH="1" rot="16200000">
            <a:off x="4668480" y="4435920"/>
            <a:ext cx="189720" cy="459720"/>
          </a:xfrm>
          <a:prstGeom prst="curvedConnector5">
            <a:avLst>
              <a:gd name="adj1" fmla="val -120912"/>
              <a:gd name="adj2" fmla="val 50000"/>
              <a:gd name="adj3" fmla="val -120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949400" y="4876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31920" y="48769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27720" y="41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760" y="4800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7760" y="41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72680" y="4419720"/>
            <a:ext cx="29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ical ques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probabil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ing a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sequ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Markov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ov Model in which the state is not directly ob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ty distribution over observations for each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45720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5720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18148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8" idx="0"/>
            <a:endCxn id="118" idx="7"/>
          </p:cNvCxnSpPr>
          <p:nvPr/>
        </p:nvCxnSpPr>
        <p:spPr>
          <a:xfrm flipH="1" rot="16200000">
            <a:off x="2535120" y="4435920"/>
            <a:ext cx="189720" cy="459360"/>
          </a:xfrm>
          <a:prstGeom prst="curvedConnector5">
            <a:avLst>
              <a:gd name="adj1" fmla="val -120912"/>
              <a:gd name="adj2" fmla="val 49960"/>
              <a:gd name="adj3" fmla="val -120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9" idx="0"/>
            <a:endCxn id="119" idx="7"/>
          </p:cNvCxnSpPr>
          <p:nvPr/>
        </p:nvCxnSpPr>
        <p:spPr>
          <a:xfrm flipH="1" rot="16200000">
            <a:off x="4668480" y="4435920"/>
            <a:ext cx="189720" cy="459720"/>
          </a:xfrm>
          <a:prstGeom prst="curvedConnector5">
            <a:avLst>
              <a:gd name="adj1" fmla="val -120912"/>
              <a:gd name="adj2" fmla="val 50000"/>
              <a:gd name="adj3" fmla="val -120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1949400" y="4876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31920" y="48769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27720" y="41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760" y="4800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7760" y="41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410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334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8920" y="60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52640" y="60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8960" y="3886200"/>
            <a:ext cx="266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ical ques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prob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a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sequ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most lik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sequenc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sponds to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sequ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MMs for fMRI Data: 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goal: Train HMMs on fMRI data (maximize the probability of the model parameters given the training observations), test on new sequ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imate goal: Use these algorithms to evaluate HMMs with hidden cognitive st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St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continuous Baum-Welch algorithm to train HMM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in on multiple observation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Viterbi algorithm to get the probability of a new observation sequence given the train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results on synthetic, continuou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ati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 probabilities -&gt; can’t constrain left-right model form with zero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-estimating initial state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um-Welch is more sensitive to observation values than initial transition prob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 features with one multivariate normal distribution, but forcing independence assump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-estimate the diagonal of the covariance mat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ures are voxels, not voxels at time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– 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values for Picture-Sentence (PS) HMM below (N=2,M=2), Sentence-Picture (SP) HMM is simi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ed with 10 observation sequences sampled from the given distributions, 5 iterations of the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ed on different sequences, same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495680"/>
            <a:ext cx="190512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495680"/>
            <a:ext cx="190512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1" idx="0"/>
            <a:endCxn id="141" idx="7"/>
          </p:cNvCxnSpPr>
          <p:nvPr/>
        </p:nvCxnSpPr>
        <p:spPr>
          <a:xfrm flipH="1" rot="16200000">
            <a:off x="2901960" y="4298400"/>
            <a:ext cx="280080" cy="673920"/>
          </a:xfrm>
          <a:prstGeom prst="curvedConnector5">
            <a:avLst>
              <a:gd name="adj1" fmla="val -81724"/>
              <a:gd name="adj2" fmla="val 49973"/>
              <a:gd name="adj3" fmla="val -81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0"/>
            <a:endCxn id="142" idx="7"/>
          </p:cNvCxnSpPr>
          <p:nvPr/>
        </p:nvCxnSpPr>
        <p:spPr>
          <a:xfrm flipH="1" rot="16200000">
            <a:off x="5721480" y="4298400"/>
            <a:ext cx="280080" cy="673920"/>
          </a:xfrm>
          <a:prstGeom prst="curvedConnector5">
            <a:avLst>
              <a:gd name="adj1" fmla="val -81724"/>
              <a:gd name="adj2" fmla="val 49973"/>
              <a:gd name="adj3" fmla="val -81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200760" y="4191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7400" y="41911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10600" y="51055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54320" y="47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22280" y="47242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29600" y="510552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1: N(0.5,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2: N(1.0,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49120" y="510552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1: N(1.0,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2: N(2.0,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54600" y="58672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= 0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50080" y="58672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=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-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seq=PS|model=PS)&gt;P(seq=PS|model=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seq=SP|model=SP)&gt;P(seq=SP|model=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3429000"/>
          <a:ext cx="7772400" cy="25876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. Se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24*10^-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53*10^-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872*10^-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97*10^-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15:39:45Z</dcterms:created>
  <dc:creator>School of Computer Science</dc:creator>
  <dc:description/>
  <dc:language>en-US</dc:language>
  <cp:lastModifiedBy>School of Computer Science</cp:lastModifiedBy>
  <dcterms:modified xsi:type="dcterms:W3CDTF">2003-04-30T21:12:33Z</dcterms:modified>
  <cp:revision>13</cp:revision>
  <dc:subject/>
  <dc:title>Hidden Markov Models for fMRI Data</dc:title>
</cp:coreProperties>
</file>